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media/image8.gif" ContentType="image/gif"/>
  <Override PartName="/ppt/media/image9.gif" ContentType="image/gif"/>
  <Override PartName="/ppt/media/image10.wmf" ContentType="image/x-wmf"/>
  <Override PartName="/ppt/media/image11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702-C86C-460C-A0BB-05903C03F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FBC-56FF-4A19-A0F6-CFBA254DE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4580-1E22-4C22-B46A-FA32D6806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0D96-E996-4292-9CB7-A2A535A92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42AB-0166-4F58-94D7-0F0824AD5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0088-2307-4413-B041-9701F5EC6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9F95-2498-46E2-9D8C-F76935F7B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1214-7C85-47DC-9F5E-9598F5829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336A-008B-41D3-A2CC-837F81F16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C1FE-1E6D-4F51-A8C7-02914DDF4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2C6A-3296-49C1-99C2-542CD4AD4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85CC-B75D-4F07-AE86-25612A533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634-9CF6-4304-A196-949B4588F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053-AF46-428F-B649-91208BB68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2A18-19AC-4910-9515-D2E58A6CA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D109-5EC5-4842-A5C3-AADF5F271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7DA-0A4C-44CD-B3B6-F8C68414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7D5-3607-43BD-9609-C93EFD38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B65A2-A1E3-4A78-8C42-D5A358FD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C11D5-BFF4-4CEB-82D6-DD1031D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93173-334F-4A68-8BE6-37406A1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D078A-3849-4A58-9E19-B0803CC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C1EFA-1642-4919-98E5-3580F15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3C3F5-C292-4A03-B7BC-069CEA47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625BE-E575-4D83-A840-90F5455D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4FE35-BA9C-488D-B59D-960A01C0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99914-8011-4B1F-8A77-F09B0520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59C-1014-4325-B165-B052F63C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048-5310-4A23-86B6-1E125B6D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C5A5-02C1-4259-B8ED-27220BB5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4BA3-2C76-465F-A2FF-5DAB0D89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3E9-D0C7-4162-A93C-884077A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4D6-0D4D-43C4-910D-8B7DDDF6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2CC-7746-46A3-8E87-E9D759FB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2BCE-D330-4C97-A854-BF4967E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20D-EAC6-4944-B585-27360C0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AE2-3D77-40D6-9BEA-E390E8CD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5796-0B12-49B6-936D-D40021B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B51A-C7B7-419C-9E50-C7A1233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0196-19D9-42C8-AB49-964CD42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87E-3460-476F-AD0D-F8D6AF8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8152-6A0F-4C32-ABAC-2CCD9404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D1D2-EB55-4B57-BE58-38247397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BE68-6C0B-4E98-B581-6CD3312B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8A8A-6BA7-4919-ADBD-37BF8714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CF68-AFD6-49C1-A4AF-531FEED8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B1BB-F069-44FC-BEB4-CE29B0E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955-B0C2-400C-BE76-CB22E9E0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6C58-BA9B-4D46-AB6E-48A00DC2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01B7-3579-49A6-B98F-1D39510F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D377-6EBC-4EDF-8F5E-6AE9B59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E886-8A63-467A-93AC-C9FBB6BF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7CC8-477F-4D40-8752-7C29E02C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298F-32B0-4A7A-9F90-DFEDBD68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5A48-056C-4181-90C7-DEECC5AA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CC41-0850-48DD-8C61-F1E2AF0B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E693-DED2-4897-9242-92995F1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F874-0384-4132-86AF-C1FB7B8B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276-8965-4089-9B00-AB4FC004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D9A0-2F56-4C71-AF70-EE51EB77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D82A-DE4C-4DF5-83E5-27F01D54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3D03F-C51A-45EC-BC55-C8980E36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B741-DCA2-4366-80ED-EAE83ED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C6FB-4B0B-41C8-975A-99AD40A1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318C-5D1E-4C13-94C8-10C7439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8F7B-5E8C-4DED-9080-5D1BC93C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86ED-851D-49EF-A4B2-6E268C71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7A0C-EC9A-4720-B661-55D0AED7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F77A7-A91E-4BA7-BF24-C88FDA20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540-2D28-4AE7-BF41-E44CB1D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5CE7-1D6F-43C2-AC3E-EA175E99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0C3E-A1E2-4065-B6F9-5B57E035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D381-1F91-4BA3-9DEA-90D01F6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0E106-B6BF-4598-902C-310A09A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FFC94-86DD-4EA5-B82D-CBE733E3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1E9C-E369-4B81-ADA7-0814BD9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898C-D71E-4EBF-A2C4-F4F61E7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E0691-E886-478B-B13D-4171FE7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B147E-1A1A-4705-A4D0-885F008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44B8-9013-4536-A243-E9CC0C9B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68F-381C-485A-886B-E10DCC1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52487-1F30-4214-BEA3-49043ED6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C7FF-3CF0-4962-AB0D-3FC92C1E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11DC-8503-43C5-8AAB-7F1DD51F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0D4F-10F1-42AF-B586-7156CC8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CA0BA-E4A6-4971-A5DD-63ED6D8B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44FA2-4447-4B05-A0FC-1896D95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E5F1-8C8E-42BE-AEE2-FA45401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4E03-2295-48E1-B44A-E1A927C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FA920-BD99-4582-B13F-82FB88C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CE9ED-1038-4F7F-9D16-CA51204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99B-D55E-4583-A6A0-24F12C31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D31B3-191B-4A8F-B225-AB98599F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1DE6-30FD-427F-8A1F-7E0884B2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01F6-44C9-4FE0-B832-42148797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B6A6-A6F0-4C1D-9753-E3EB2B94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AD33F-8B0A-4A05-AC19-8DA6402B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1186-D3A5-47BC-A99E-40EBF5C8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BAED-D9CE-46BA-B73F-DAF816D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9370E-A4E9-451A-B7B4-34B4C910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70EF-0571-48C0-8963-31B30663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A70C-8938-4833-82BC-E7D87D5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10B-2E2B-4D36-B160-CA1A6710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8B22A-CB18-422E-A646-4B5F213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3DB5-24DC-43BA-B7D0-E74DCF7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35A4F-2802-49AE-B491-70EFA239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55A5D-7662-431E-B41A-80CFB7F5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AECD-4669-4064-8D48-126918A6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BB38F-EB7E-44EF-9300-6A3C21ED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C5D33-5536-4349-AD0A-D3E5E407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E99E-845A-4D38-8FDF-9BB5554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6A4E4-51C7-4250-96FA-7951BF1C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CA13-36B4-43A9-A530-A1849D2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E07-CF64-4D98-8F5A-A928F16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D7E0-48B0-41B6-9C3A-FDCF7B6E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EEB7-C71A-4611-8F2B-8FB94C8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DB14-115C-43D0-8EEC-2CDCE41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C344-BBFE-4B23-A538-F938C9F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CD53-647D-4B24-AF9E-55BCFB28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656AA-D810-4AF0-9DA0-C8418BE3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81783-2133-496B-82DC-FF31FA9B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39ECA-3E88-4C58-B15B-2B1A0E53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A049B-B4BA-4DC8-9909-83D9C66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3675A-F3F9-4313-B482-F54722FF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7B4-3152-4EE1-8FD3-312414994B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9B5-96AB-4CCB-92F1-E3460FC09B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FF6E-AB88-4785-A7F6-BA3593D2481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6BA-CEF0-441E-A8B1-E683D04F41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AB62-3791-4605-84F0-BCD50AF244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55F-7961-4D0E-9FB0-B336DED89A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D28F-4C07-4276-841A-C44A1311E1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8B04-BCA9-4257-AEC5-44E3509E04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8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7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2E5-5DA8-4D30-BF7D-DC85C542A39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a8a14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mic Sans MS"/>
              </a:rPr>
              <a:t>One more thing… it is best to make </a:t>
            </a:r>
            <a:r>
              <a:rPr b="1" lang="en-US" sz="4300" spc="-1" strike="noStrike">
                <a:solidFill>
                  <a:srgbClr val="8dc765"/>
                </a:solidFill>
                <a:latin typeface="Comic Sans MS"/>
              </a:rPr>
              <a:t>several trials</a:t>
            </a:r>
            <a:r>
              <a:rPr b="1" lang="en-US" sz="4300" spc="-1" strike="noStrike">
                <a:solidFill>
                  <a:srgbClr val="572314"/>
                </a:solidFill>
                <a:latin typeface="Comic Sans MS"/>
              </a:rPr>
              <a:t> with each independent variable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Remember: To be a Valid Experiment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qualitativ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descriptive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" name="Picture 6" descr="j0076136"/>
          <p:cNvPicPr/>
          <p:nvPr/>
        </p:nvPicPr>
        <p:blipFill>
          <a:blip r:embed="rId2"/>
          <a:stretch/>
        </p:blipFill>
        <p:spPr>
          <a:xfrm>
            <a:off x="6568920" y="3646440"/>
            <a:ext cx="962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2" name="Picture 4" descr="j0076136"/>
          <p:cNvPicPr/>
          <p:nvPr/>
        </p:nvPicPr>
        <p:blipFill>
          <a:blip r:embed="rId2"/>
          <a:stretch/>
        </p:blipFill>
        <p:spPr>
          <a:xfrm>
            <a:off x="6568920" y="3646440"/>
            <a:ext cx="962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5" name="Picture 6" descr="bs01344_"/>
          <p:cNvPicPr/>
          <p:nvPr/>
        </p:nvPicPr>
        <p:blipFill>
          <a:blip r:embed="rId2"/>
          <a:stretch/>
        </p:blipFill>
        <p:spPr>
          <a:xfrm>
            <a:off x="6270480" y="3405240"/>
            <a:ext cx="1559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6" descr="j0076135"/>
          <p:cNvPicPr/>
          <p:nvPr/>
        </p:nvPicPr>
        <p:blipFill>
          <a:blip r:embed="rId2"/>
          <a:stretch/>
        </p:blipFill>
        <p:spPr>
          <a:xfrm>
            <a:off x="5987880" y="3303720"/>
            <a:ext cx="21243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1" name="Picture 6" descr="j0076187"/>
          <p:cNvPicPr/>
          <p:nvPr/>
        </p:nvPicPr>
        <p:blipFill>
          <a:blip r:embed="rId2"/>
          <a:stretch/>
        </p:blipFill>
        <p:spPr>
          <a:xfrm>
            <a:off x="6369120" y="3313080"/>
            <a:ext cx="1361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Steps in the Scientific Metho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3" name="Picture 6" descr="j0076135"/>
          <p:cNvPicPr/>
          <p:nvPr/>
        </p:nvPicPr>
        <p:blipFill>
          <a:blip r:embed="rId2"/>
          <a:stretch/>
        </p:blipFill>
        <p:spPr>
          <a:xfrm>
            <a:off x="2025720" y="3303720"/>
            <a:ext cx="2124000" cy="15429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 / Probl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7" name="Picture 6" descr="j0078802"/>
          <p:cNvPicPr/>
          <p:nvPr/>
        </p:nvPicPr>
        <p:blipFill>
          <a:blip r:embed="rId2"/>
          <a:stretch/>
        </p:blipFill>
        <p:spPr>
          <a:xfrm>
            <a:off x="5697360" y="2851200"/>
            <a:ext cx="270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2800" spc="-1" strike="noStrike">
                <a:solidFill>
                  <a:srgbClr val="8dc765"/>
                </a:solidFill>
                <a:latin typeface="Comic Sans MS"/>
              </a:rPr>
              <a:t>test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t be based upon research or prior knowled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2800" spc="-1" strike="noStrike">
                <a:solidFill>
                  <a:srgbClr val="aa8a14"/>
                </a:solidFill>
                <a:latin typeface="Comic Sans MS"/>
              </a:rPr>
              <a:t>If…Then…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765"/>
                </a:solidFill>
                <a:latin typeface="Comic Sans MS"/>
              </a:rPr>
              <a:t>Predict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6" descr="bd05030_"/>
          <p:cNvPicPr/>
          <p:nvPr/>
        </p:nvPicPr>
        <p:blipFill>
          <a:blip r:embed="rId2"/>
          <a:stretch/>
        </p:blipFill>
        <p:spPr>
          <a:xfrm>
            <a:off x="6586560" y="3449520"/>
            <a:ext cx="9270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Independent Variab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or that is being tes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er contr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ipulating var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aphed on x-ax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Dependent Variab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utc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onding var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aphed on y-ax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7621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Control Grou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xperimental group that is used as the compari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ually is not maniupul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xperi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51055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Consta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itions that stay the sa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duce error and make data more val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Scientific Experiments Follow Rul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38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4" descr="professor7"/>
          <p:cNvPicPr/>
          <p:nvPr/>
        </p:nvPicPr>
        <p:blipFill>
          <a:blip r:embed="rId2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Example of Contants &amp; Variab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dc765"/>
                </a:solidFill>
                <a:latin typeface="Comic Sans MS"/>
              </a:rPr>
              <a:t>For exampl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fastest rout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 will try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several different rout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time how long it tak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you will do the walking yourself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What are the Variables in Your Experimen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stant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35:53Z</dcterms:created>
  <dc:creator>Laura</dc:creator>
  <dc:description/>
  <dc:language>en-US</dc:language>
  <cp:lastModifiedBy>Administrative Services</cp:lastModifiedBy>
  <dcterms:modified xsi:type="dcterms:W3CDTF">2011-08-17T15:50:40Z</dcterms:modified>
  <cp:revision>2</cp:revision>
  <dc:subject/>
  <dc:title>Scientific Method</dc:title>
</cp:coreProperties>
</file>